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349C-FE07-461A-80DB-4F6DC312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D1B-1A5B-4D15-B302-D745EF20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9A1-78B9-475E-A0AF-1B63749EB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D8E-B44A-4D92-9996-7B1E32FA9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9316-AA9A-4978-9A81-A1C066E46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D12-8C8F-4D8D-954E-3128C30FC1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03B-F3FA-47EA-A7BC-853360FCD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564A-5527-4199-A3E5-6390A7387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6215-D813-445B-8E92-7D9DBD1EF9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3BB-0B21-4DF9-B507-F355B21D81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7FA-15A6-44FA-B2C2-9777F9DB2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DD76-136C-421A-A223-D7E42177A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14C-0ECC-43EA-BC00-B322ECBA83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9803-A25A-47F9-B2C8-4E06B53DA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96E-95DC-44F7-8679-A0427C00FE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06EF-6213-4CA4-905B-2B98C93BB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F25-9509-4C91-A96B-263393060E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CA04-E6AB-4ABB-A6BC-B719C87983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B15-4465-48D2-B3A6-E97603800C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B0F-F042-4219-B82D-776C0428D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267-0A37-4326-9E2B-5E084318B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5BC-460C-4A00-A828-C7C3988D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CFB-3D21-43FA-884E-DE8C36FC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593-1110-44B1-963E-4D88FFF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D87-BD0F-4B7C-A59F-031066E2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C86-AC84-4C2D-BB4E-DE9547E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DC5-A2B2-42D9-889E-58E484D3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1EF-0392-47C9-B1F3-DBBE4AD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95A-F0CC-42DC-A154-F9272EA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81E-8992-4F4B-B1FD-DAC3C9E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311-6296-4728-BADE-D396275E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71C-04C2-4047-9241-BE02A8E0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E1F-9628-46EA-812E-DE576FCF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392-6CA4-4F49-9E36-8CD786290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1" name="Subtitle 2"/>
          <p:cNvSpPr/>
          <p:nvPr/>
        </p:nvSpPr>
        <p:spPr>
          <a:xfrm>
            <a:off x="1643040" y="5857920"/>
            <a:ext cx="6400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штина фармацеутске комуник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ubtitle 2"/>
          <p:cNvSpPr/>
          <p:nvPr/>
        </p:nvSpPr>
        <p:spPr>
          <a:xfrm>
            <a:off x="4000680" y="4929120"/>
            <a:ext cx="442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1040" y="2857320"/>
            <a:ext cx="85629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нтервју у комуникацији,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игитална култура у фарм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2205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ичајте ми о Вашим највећим успесима/разочарењима у живо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је су Ваше слаб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 Вам је највише/најмање одговарало на претходном радном мес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ледњем радном месту које сте имали, колико сте били самостални а колико укључени у тимски рад? Шта Вам је више одговара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ји су тежи проблеми са којима сте се сусретали, на свом претходном радном месту? Како сте их реш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ли сте икада давали неке сугестије Вашем руководству? Шта се догоди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 је, по Вашем мишљењу, руководство требало да учини како би Ваш рад био ефикасниј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 Вас је онемогућило да напредујете брзином којом бисте Ви жел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јте ми о Вашој пород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ме се бави Ваш муж/ж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 би још требало, по Вашем мишљењу, да знам о Ва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јте ми о најгорем/најбољем шефу кога сте им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ако воли да критикује. Шта би људи критиковали код Ва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ако има миљенике. Који су Ваш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в Вам руководилац одгова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волите да се селите, било сада или касниј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је нека тежа питања или коментари за које унапред треба припремити одго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јте ми о се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 то не значи преокрет у карије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ли сматрате да сте довољно образовани за ово место? (уколико кандидат нема степ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ате искуства/основа за ово место. Шта мислите о то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али смо у виду старију/млађу особу за ово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ате већу квалификацију, него што је потребна за ово место, зар 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тања која се односе на плату, на почетку интервју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 финансијски стоји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ја би била минимална плата коју очекујете да прими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ли постоје било која питања, која бисте Ви мени поставили, у вези са положајем / компаниј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или смо информације, које су нам потребне. Јавићемо Вам се. Мислимо да ово није то што Ви траж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нисекс пи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а питања са ове листе, односе се пођеднако и на жене и на мушкар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ји други тип питања, која се директно односе на жене-кандид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а питања су тако конципирана да истраже колико њена каријера утиче на њене обавезе према породици, као и да открију њен животни ст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ед тога што су у великој мери анахрона, она су, понекад двосмислена али се и даље поставља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ручује се да будете припремљени за њих, да бисте могли с њима да се суочите, у позитивном смислу и без самоодб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и питања која се упућују особама женског п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ли планирате да се уд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ли планирате да имате (више) де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 сте решили збрињавање де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став према конференцијама на којима присуствују и мушкарц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ли сматрате да би мушкарци могли да буду потчињени В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што желите да рад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да научите да дате кратке и разумне Одговоре, на сва наведена питања, Ви контролишете Ваш интервју и задовољићете потребу испитивача, да одлуч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постоји конзистентан интерест у одређеној професионалној области или циљ кариј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Ваше радно искуство и образовање, указују на стално присуство Ваше енерги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лико своје жеље нисте до сада постигли, да ли у Вашем искуству постоје исте особине, које Вас одређуј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говору о досадашњим послодавцима и разлозима напуштања, да ли откривате зрелост и реалистичан став или изгледа да сте се "спремни на расправу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Ваши одговори на питања показују стабилност, зрелост и одговорност, као и напредовање и постизање успе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мтите -  увек дајте најбољу могућну слику, која је дослед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061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Осмех, време, снажно руковање, 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будите позитивни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истакните ваша интересовања и способност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920" y="2349360"/>
            <a:ext cx="864216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рити први утис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итивачу треба само четири минута, да одлучи да ли сте Ви права особа за фир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игледно, ту постоје доста фактора, који утичу на овакву одлу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ећа упутства ће Вам помоћи да формирате позитиван први утис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жно рук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ите позити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акните Ваша интересовања и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ите спрем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смех, време, снажно руковањ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мејано лице оставља бољи утисак, него намргођ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 је веома важно – будите на договореном месту, најмање пет минута пре раз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жно рук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ржати поглед у 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ците се клас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шите своју гестикулацију т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з вербалне комун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00"/>
                </a:solidFill>
                <a:latin typeface="Arial"/>
              </a:rPr>
              <a:t>Будите позитивни,</a:t>
            </a:r>
            <a:br>
              <a:rPr sz="3600"/>
            </a:br>
            <a:r>
              <a:rPr b="1" i="1" lang="sr-RS" sz="3600" spc="-1" strike="noStrike">
                <a:solidFill>
                  <a:srgbClr val="000000"/>
                </a:solidFill>
                <a:latin typeface="Arial"/>
              </a:rPr>
              <a:t>Будите спремни</a:t>
            </a: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2870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ите пози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да се ради о послу, школи, породи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акните ваша интересовања и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по је помало се хвалис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ите спре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дите Ваш домаћи зад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итајте се о компан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жбајте одговоре на нека типична питања из интервју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есите више копија Ваше биографије, као и списак препо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есите узорке Вашег рада, уколико је то на ме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ојте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орите лош први утиса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аки од набројаних лоших утисака може да се избег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да прегледате списак, проверите на који начин ћете да избегнете да направите исте гре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ћи касно, без доброг раз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оше изгледате на први погл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огантни, агресивни, самозадовољни, комплекс супериорности, све з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 тешкоћом се јасно изражавате, тихим гласом, неодговарајућа дикција, непознавање гра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достају Вам план ваше каријере, пројекти или циље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интересовани сте и без ентузијазма, пасивни и индиферент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3"/>
          <p:cNvSpPr/>
          <p:nvPr/>
        </p:nvSpPr>
        <p:spPr>
          <a:xfrm rot="21480000">
            <a:off x="5995800" y="639360"/>
            <a:ext cx="2587320" cy="3156120"/>
          </a:xfrm>
          <a:prstGeom prst="wedgeEllipseCallout">
            <a:avLst>
              <a:gd name="adj1" fmla="val -92796"/>
              <a:gd name="adj2" fmla="val 14328"/>
            </a:avLst>
          </a:prstGeom>
          <a:gradFill rotWithShape="0">
            <a:gsLst>
              <a:gs pos="0">
                <a:srgbClr val="004e9b"/>
              </a:gs>
              <a:gs pos="100000">
                <a:srgbClr val="004e9b"/>
              </a:gs>
            </a:gsLst>
            <a:lin ang="3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ffffff"/>
                </a:solidFill>
                <a:latin typeface="Arial"/>
                <a:ea typeface="Arial"/>
              </a:rPr>
              <a:t>Mater omnium bonarum artium est sapientia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Maxima enim est hominum semper patientia virt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ослу први утисак често може да буде најбитниј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ју Вам сигурност и уравнотеже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суство учешћа у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ују Вас само новац и најбоља пон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рел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је учтивост, показујете лоше ман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критикује претходног послодавца и негативан је о св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оли истражи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не гледа испитивача право у 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ање без топ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сок степен неодлу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о нешто заиста не осећате немојте то ни чини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занемарује одговоре на сва питања која се налазе на формул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 или без смисла за хум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вољно познавање своје уже специјал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је заинтересован нити за организацију нити за индустр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особан да прими кри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ставља питања у вези радног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увише агресиван и исувише инсист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одговара површно на пи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ак личне иницијати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ји велики број канала комуникације између истраживања тржишта и фармацеутске индустрије. Фокусирање канала постало је значајније што се привреда више унапређује – и важно је да се не заборави битна веза између истраживања и високог образовања, које заузврат, обезбеђује проток квалификованих дипломаца у привреду. Истраживање тржишта истиче способност фармацеутске индустрије. Разноврсним аспектима истраживања тржишта одржава се разноликост опција, које су битне за флексибилност система иновац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си између истраживања тржишта и иновације, добијају све већи значај као тема у све већем приливу знања у привреду. Међутим, то је веома комплексна област. У контексту ограничених ресурса за финансирање истраживања тржишта као и потребе да се оправдају ови ресурси, све већи број академских аналитичара тржишта, заинтересован је за спознају односа између истраживања тржишта и привредне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ућност фармације је испреплетена са дигиталним здравственим иновац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ја нових технологија за оптимизацију тока рада у апотеци била је трансформатив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њих деценија, развој компјутеризованог тока посла омогућио је фармацеутима да аутоматизују процес идентификације интеракција лекова, лако приступе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еутским ресурсима и дигитализују складиштење информација о пацијент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радиционални ток рада у апотеци, који укључује активности као што су издавање лекова, пружање савета о лековима пацијентима и одговарање на консултације о информацијама о лековима, решења апотекарске технологије су у великој мери побољшала капацитет за продуктивност фармацеу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ђутим, док су ови напретци повећали ефикасност традиционалног апотекарског радног процеса, новији задаци до којих је дошло проширењем клиничких услуга фармацеута су релативно нетакнути технологиј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ки спектар дигиталног здравља укључује вишеструке преклапајуће технологије, приступе, публику и употреб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форме за здравствене системе, клинике и друга подешавања предузећа, укључујући апо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шке платформе и системи подршке за клиничаре и помоћ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 окренути пацијенту који прикупљају, чувају или преносе здравствене пода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 за дијагнозу, вођење дијагнозе или директно праћење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 који пружају медицинске интервенције и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дији као комуникациони кан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уникација се одвија помоћу комуникационих канала путем којих се преноси пору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ји представљају скуп инструмената који има улогу посредника у комуникацији између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ји представљају врсте комуникационих канала којим се остварује комуник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шиљал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ала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ункције порука (по </a:t>
            </a:r>
            <a:r>
              <a:rPr b="0" i="1" lang="en-GB" sz="3200" spc="-1" strike="noStrike">
                <a:solidFill>
                  <a:srgbClr val="202122"/>
                </a:solidFill>
                <a:latin typeface="Arial"/>
              </a:rPr>
              <a:t>Umberto Eco</a:t>
            </a:r>
            <a:r>
              <a:rPr b="0" i="1" lang="sr-RS" sz="3200" spc="-1" strike="noStrike">
                <a:solidFill>
                  <a:srgbClr val="20212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314172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еренцијал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отивна функ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ивна 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тичка функција или контакт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језичка 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етска функ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игитална кул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гитална култура односи се на културу обликовану појавом и употребом дигиталних техн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тура је она сложена целина која обухвата сазнање, веровање, уметност, морал, право, обичај и друге погодности и начине које је човек стекао као члан друштва ‘’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.B. Teylor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‘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тура - историјски створени селективни поступак који регулише људско реаговање како на спољне тако и на унутрашње подстицаје ‘’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. Kluckhohn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.Kelly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игитално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гитално“ -  у почетку је био синоним за електронске бинарне рачунаре; чувају податке у дигиталном, бинарном облику, у виду нула и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гитално“ – данас подразумева употребу високих технологија 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едијским фор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ултуролошким и медијским прав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оизвођачи високих техн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у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ски развој дигиталне култур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XIX-XX 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781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George Boole</a:t>
            </a:r>
            <a:r>
              <a:rPr b="0" i="1" lang="sr-RS" sz="2000" spc="-1" strike="noStrike">
                <a:solidFill>
                  <a:srgbClr val="202122"/>
                </a:solidFill>
                <a:latin typeface="Arial"/>
              </a:rPr>
              <a:t> - </a:t>
            </a:r>
            <a:r>
              <a:rPr b="1" i="1" lang="sr-RS" sz="2000" spc="-1" strike="noStrike">
                <a:solidFill>
                  <a:srgbClr val="202122"/>
                </a:solidFill>
                <a:latin typeface="Arial"/>
              </a:rPr>
              <a:t>Булова</a:t>
            </a:r>
            <a:r>
              <a:rPr b="1" lang="ru-RU" sz="2000" spc="-1" strike="noStrike">
                <a:solidFill>
                  <a:srgbClr val="202122"/>
                </a:solidFill>
                <a:latin typeface="Arial"/>
              </a:rPr>
              <a:t> алг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122"/>
                </a:solidFill>
                <a:latin typeface="Arial"/>
              </a:rPr>
              <a:t>Криптографија, криптоанализа</a:t>
            </a:r>
            <a:r>
              <a:rPr b="0" lang="sr-Latn-RS" sz="2000" spc="-1" strike="noStrike">
                <a:solidFill>
                  <a:srgbClr val="202122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Manchester Mark 1</a:t>
            </a:r>
            <a:r>
              <a:rPr b="0" i="1" lang="sr-Latn-RS" sz="2000" spc="-1" strike="noStrike">
                <a:solidFill>
                  <a:srgbClr val="202122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Manchester Automatic Digital Machine</a:t>
            </a:r>
            <a:r>
              <a:rPr b="0" i="1" lang="sr-Latn-RS" sz="2000" spc="-1" strike="noStrike">
                <a:solidFill>
                  <a:srgbClr val="20212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122"/>
                </a:solidFill>
                <a:latin typeface="Arial"/>
              </a:rPr>
              <a:t>Кибернетски дис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rbert Wiener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02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Claude Elw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02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Fluxus</a:t>
            </a:r>
            <a:r>
              <a:rPr b="0" i="1" lang="sr-RS" sz="2000" spc="-1" strike="noStrike">
                <a:solidFill>
                  <a:srgbClr val="202122"/>
                </a:solidFill>
                <a:latin typeface="Arial"/>
              </a:rPr>
              <a:t>,</a:t>
            </a:r>
            <a:r>
              <a:rPr b="0" i="1" lang="sr-Latn-RS" sz="2000" spc="-1" strike="noStrike">
                <a:solidFill>
                  <a:srgbClr val="202122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Cybernetic Culture Research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02122"/>
                </a:solidFill>
                <a:latin typeface="Arial"/>
              </a:rPr>
              <a:t>Силицијумска дол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02122"/>
                </a:solidFill>
                <a:latin typeface="Arial"/>
              </a:rPr>
              <a:t>Светска мрежа - </a:t>
            </a:r>
            <a:r>
              <a:rPr b="1" lang="sr-Latn-RS" sz="2000" spc="-1" strike="noStrike">
                <a:solidFill>
                  <a:srgbClr val="202122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3"/>
          <p:cNvSpPr/>
          <p:nvPr/>
        </p:nvSpPr>
        <p:spPr>
          <a:xfrm>
            <a:off x="5572080" y="860400"/>
            <a:ext cx="2852640" cy="2928960"/>
          </a:xfrm>
          <a:prstGeom prst="wedgeEllipseCallout">
            <a:avLst>
              <a:gd name="adj1" fmla="val -73055"/>
              <a:gd name="adj2" fmla="val 19574"/>
            </a:avLst>
          </a:prstGeom>
          <a:gradFill rotWithShape="0">
            <a:gsLst>
              <a:gs pos="0">
                <a:srgbClr val="004e9b"/>
              </a:gs>
              <a:gs pos="100000">
                <a:srgbClr val="004e9b"/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Мудрост је мајка свих лепих вештина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Стрпљење је увек највећа врлина човекова</a:t>
            </a: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ски развој дигиталне култур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XX vek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модер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285228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ултурне појаве су биле повезане са развојем дигиталних технологија 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узиц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изајн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ме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њижев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филозофиј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филозофији се развија правац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труктурализа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нк и постмодерна књиж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ност су надахнуле научнофантастични жанр –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иберпан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ски развој дигиталне култур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XXI 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923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02122"/>
                </a:solidFill>
                <a:latin typeface="Arial"/>
              </a:rPr>
              <a:t>Lev Manovich</a:t>
            </a:r>
            <a:r>
              <a:rPr b="0" i="1" lang="sr-RS" sz="2000" spc="-1" strike="noStrike">
                <a:solidFill>
                  <a:srgbClr val="20212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202122"/>
                </a:solidFill>
                <a:latin typeface="Arial"/>
              </a:rPr>
              <a:t>Nicholas Negroponte</a:t>
            </a:r>
            <a:r>
              <a:rPr b="0" i="1" lang="sr-RS" sz="2000" spc="-1" strike="noStrike">
                <a:solidFill>
                  <a:srgbClr val="20212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ва генерација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World Wide Web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менила је једносмерни проток информација двосмерном интерактивном комуникацијом између корисника и рачунара, као и корисника и 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Данашњи Интернет карактериш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56500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лог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руштвене мре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офтвери за повезивање и размену садржа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ови видови дистрибуције и организације зн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офтвери за личне разме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игитални мед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д дигиталним медијима (новим медијима) подразумевају се они медији који користе компјутерске технологије у процесу продукције, дистрибуције и презентације медијских садрж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шло је до увођења потпуно нових медијских форми али и редефинисања традиционалних медијских фор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игитални медији обухват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тер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Видео иг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Виртуелну реалн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лмове који користе 3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анимациј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Текстове и слике који су настали употребом компју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716360" y="658188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Полако улазе у историју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игитални медији као метамеди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78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Arial"/>
              </a:rPr>
              <a:t>David Bolter, Richard Gru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арактеристике дигиталних медија према садржа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терактивна и реактивна природа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роменљивост знакова и прик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ешеканални чулни и семиотички доживљај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мрежавањ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игитални 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342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игитални текст се може дефинисати кро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ограмибил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Интерактив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Интертекстуал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пертекстуал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бил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умеричко представ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одулар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утоматиза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Транскод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Вариј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6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тертекстуа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997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нтертекстуал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бухвата следеће подвр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ратекстуа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потекстуалност (Хипертекстуалнос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етатекстуалност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рхитекстуа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терактивност, интертекстуалност и хипертекстуал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42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л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леви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јбер - 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ика мед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924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гматична 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алитарна 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онтолошка 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олошка 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она 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ативистичка 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KS MARKETINGA U FARMACEUTSKOJ INDUSTR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 sc. med.  Dušan Đur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ilustracija1"/>
          <p:cNvPicPr/>
          <p:nvPr/>
        </p:nvPicPr>
        <p:blipFill>
          <a:blip r:embed="rId1"/>
          <a:stretch/>
        </p:blipFill>
        <p:spPr>
          <a:xfrm>
            <a:off x="4643280" y="1428840"/>
            <a:ext cx="4357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и етички принципи уопште и медија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uis Alvin D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3357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дибилит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грит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вилиз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гиталне комуникације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минолошке заврзл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(комуникација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– процес размене између људи, на њихово међусобно разумевање, стварање значења, развој односа и како се поруке примају и тумаче, а одвија се говором, писањем, знаковним језиком, говором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омуникације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– средства преноса, технолошка решења, системи и канали којим се поруке између људи прено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гитална комуникациј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односи на процес размене, дељења и разумевање свих врста информација између људи, који се одвија кроз дигиталне кан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канали (интернет сајтови, друштвени медији, е-пошт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Ofline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анали (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SMS,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игитални билборд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лавни канали за дигиталне комун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ра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руштвене мр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марке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ан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обилни марке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птимизацију на претраживачима 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Search Engine Optimization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PC (pay-per-click)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амп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елевиз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р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јуми да класификујемо један сајт као друштв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99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иснички на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проф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јатељи, пратиоци, групе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hashtag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антан извор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авешт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журирање, чување или постављање различитих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гмад и коментар с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 маркетинг чврсто се ослања на фазе традиционалног маркетинг проц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ону анали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етинг планирањ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лементац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21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има бројне предности у односу на остале конвенционалне медије у оглашавањ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0682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обухватност применљивости интерн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ост интерн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кше утврђивање ефекта 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лтимедијални карактер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lustracija1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ilustracija17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ЦИЉ Интервј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дан од циљева, који сваки од испитивача има на уму, јесте да процени ставове особе која конкурише, његову личност и понаш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тавку су дата питања која се често постављају у току интервју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стоје стандардни одговори, ни на једно од ових пит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и одговори треба да су шаљиви и интелигент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бисте оставили најбољи утисак и смањили тешкоће које произилазе из непажљивих одговора, имајте у виду опште принци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PROFESIONALNE VESTINE\Profesionalne vestine 2009-2010\3 Komunikacija sa pacijentom i drugim zdravstvenim radnicima\Lectures\CV Interview\First 1.jpg"/>
          <p:cNvPicPr/>
          <p:nvPr/>
        </p:nvPicPr>
        <p:blipFill>
          <a:blip r:embed="rId1"/>
          <a:stretch/>
        </p:blipFill>
        <p:spPr>
          <a:xfrm>
            <a:off x="6357960" y="142920"/>
            <a:ext cx="2643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пшти принц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шајте питањ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кушајте да разумете шта се тачно питањем тражи. Уколико сте несигурни, тражите објашњ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размисл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 бисте узели све чињенице у обзир и одговорили на питањ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ористите позитивну информацију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а бисте одговорили на питање директно и тачно. Уђите у расправу, само о чињеницама, које су у функцији одговора, како не бисте отворили могућност за постављање нових питања. Будите искрени, али није неопходно да дате информације које нису тражене и које би могле да вас удаље од имиџа који ствара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но усмеравајте пажњу на ваше “факторе успеха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њихово испуњење. Подвуците њихову будућу употребу, у ситуацији која је предмет разговора. Имајте у виду да је основно питање које испитивач има на уму следеће: "Шта ова особа може да учини за нас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што желите да радите ов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, по вашем мишљењу, можете да помогнете нашој компанији/организациј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бисте бирали некога за ово место, какву особу бисте  Ви одабр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о бисте могли да бирате место, које би то би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бог чега желите да се бавите .................... (баш тим послом / баш у тој области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олико осећате, да у вези овог места имате неку недоумицу, шта би то би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 очекујете на овом месту да добијете, а да је то изостало у прошл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 Ваш супруг/супруга мисли о послу којим се бавите? Шта о овом мес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 мислите о раду у вечерњим сати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претпоставком да Вам понудимо место, како видите Вашу будућно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 бисте решили овај проблем? (Након што је испитивач изнео пробл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имате у виду друга радна места у овом тренутку? Како Вам ово радно место изгледа у поређењу са други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то сте напустили претходно радно мес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ко дуго сте незапосл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ме сте се бавили откако не рад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 Вам се свиђао рад у ..... компанији? Заш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ји су Вам краткорочни/дугорочни циљеви? Како планирате да их оствар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 за Вас значи успе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је Вас ствари мотивиш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ли имате у плану даље школовање, степ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 сте урадили да себе унапредите, у току прошле го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 проводите слободно вре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јте ми о Вашем здрављ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а бисте могли да вратите последњих 15 година Вашег живота, шта бисте проме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an Djuric</cp:lastModifiedBy>
  <dcterms:modified xsi:type="dcterms:W3CDTF">2023-01-02T11:09:04Z</dcterms:modified>
  <cp:revision>108</cp:revision>
  <dc:subject/>
  <dc:title>Slide 1</dc:title>
</cp:coreProperties>
</file>